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122-7E4A-4C1D-A0FA-78164F67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219-5ABD-4D3E-A204-B32FAA2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E90-1DB6-4065-89F3-44E1986D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A79-53E7-4BF9-841E-30704040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785-4822-426B-B199-BB4EB343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C92-8A1A-46A3-8C6E-181E0C6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939-5010-4DED-8343-7B9667F1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986-7DE2-4597-B4E0-649926AA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08B-A991-4D92-9A33-2B263DC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F6C-8BF5-41C2-A999-7DD15AB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405-85E8-4D46-A1B0-EC7A546E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755-6E0E-42A6-B6BF-5F05460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361-D243-4B32-BAA5-006B6E83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90512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 Exam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76212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69795"/>
          <a:stretch/>
        </p:blipFill>
        <p:spPr>
          <a:xfrm>
            <a:off x="533520" y="838080"/>
            <a:ext cx="792468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6629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609480" y="11430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8138" r="0" b="57290"/>
          <a:stretch/>
        </p:blipFill>
        <p:spPr>
          <a:xfrm>
            <a:off x="609480" y="20574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16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914400" y="16765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2719" r="0" b="43743"/>
          <a:stretch/>
        </p:blipFill>
        <p:spPr>
          <a:xfrm>
            <a:off x="914400" y="25146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010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87505"/>
          <a:stretch/>
        </p:blipFill>
        <p:spPr>
          <a:xfrm>
            <a:off x="685800" y="144792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267" r="0" b="27067"/>
          <a:stretch/>
        </p:blipFill>
        <p:spPr>
          <a:xfrm>
            <a:off x="685800" y="23623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010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380880" y="838080"/>
            <a:ext cx="830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840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90"/>
          <a:stretch/>
        </p:blipFill>
        <p:spPr>
          <a:xfrm>
            <a:off x="5335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3759"/>
          <a:stretch/>
        </p:blipFill>
        <p:spPr>
          <a:xfrm>
            <a:off x="9907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862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03:35Z</dcterms:created>
  <dc:creator>david g. kleinbaum</dc:creator>
  <dc:description/>
  <dc:language>en-US</dc:language>
  <cp:lastModifiedBy>dkleinb</cp:lastModifiedBy>
  <dcterms:modified xsi:type="dcterms:W3CDTF">2003-11-18T15:21:44Z</dcterms:modified>
  <cp:revision>19</cp:revision>
  <dc:subject/>
  <dc:title> Confounding Involving Several Risk Factors</dc:title>
</cp:coreProperties>
</file>